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0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2B541-52AD-4987-B4AD-571E28B2331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F639-CF64-4213-9E65-D0E9E2B6A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2328-415D-4AFD-9402-036D3168C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58C2-E5AD-4251-8BF4-CA916540B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89A5-9430-418B-9AE1-FB0CB9E7F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346B-C114-49C6-941C-5A587BD0F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B998-6B39-4C5D-A5B5-6B2F6BB8C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3A5C-CF43-4C2E-899E-23A777989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C2C9-55D1-4DD2-850F-614166625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ADF1-8055-40C0-817D-82E3DAA53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67E4-F937-423F-B145-DEA7B59C4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E7CE-156F-44F5-BA50-4448E6945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D20E-7946-4DFA-B89D-1706E44BB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14F97-EE15-41D0-AB73-9C5B1AD0265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estar.rdfz.cn/Resource/gz/GZYY/NEW2/bkzs/C1/246_sr.htm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estar.rdfz.cn/Resource/gz/GZYY/NEW2/bkzs/C1/246_sr.htm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estar.rdfz.cn/Resource/gz/GZYY/NEW2/bkzs/C1/246_sr.htm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estar.rdfz.cn/Resource/gz/GZYY/NEW2/bkzs/C1/246_sr.htm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estar.rdfz.cn/Resource/gz/GZYY/NEW2/bkzs/C1/246_sr.htm" TargetMode="Externa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png"/><Relationship Id="rId5" Type="http://schemas.openxmlformats.org/officeDocument/2006/relationships/package" Target="../embeddings/oleObject3.docx"/><Relationship Id="rId6" Type="http://schemas.openxmlformats.org/officeDocument/2006/relationships/image" Target="../media/image4.png"/><Relationship Id="rId7" Type="http://schemas.openxmlformats.org/officeDocument/2006/relationships/package" Target="../embeddings/oleObject4.docx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447920" y="1828800"/>
            <a:ext cx="6248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at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are they talking abou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371600" y="3200400"/>
            <a:ext cx="6477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is their plan for toda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668680" y="1397160"/>
            <a:ext cx="1171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h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1371600"/>
            <a:ext cx="6248160" cy="40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Dad: ____ we buy some fis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and chips ther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Son: I think that’s a good ide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Dad: Sure! And we’d ______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take our hats. The Su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s burn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945760" y="3530520"/>
            <a:ext cx="1348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et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657600" y="1143000"/>
            <a:ext cx="151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Egyp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2840" y="1981080"/>
            <a:ext cx="338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he River N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658320" y="2666880"/>
            <a:ext cx="1736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sw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43560" y="3581280"/>
            <a:ext cx="347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he High D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5640" y="4572000"/>
            <a:ext cx="471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ffff"/>
                </a:solidFill>
                <a:latin typeface="Times New Roman"/>
              </a:rPr>
              <a:t>Abu Simbel Te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>
            <a:hlinkClick r:id="rId1"/>
          </p:cNvPr>
          <p:cNvSpPr/>
          <p:nvPr/>
        </p:nvSpPr>
        <p:spPr>
          <a:xfrm>
            <a:off x="368136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752480" y="1371600"/>
            <a:ext cx="563904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What’s the relationshi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between the High Da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and Abu Simbel Templ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3886200"/>
            <a:ext cx="55627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is the main idea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whole fil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>
            <a:hlinkClick r:id="rId1"/>
          </p:cNvPr>
          <p:cNvSpPr/>
          <p:nvPr/>
        </p:nvSpPr>
        <p:spPr>
          <a:xfrm>
            <a:off x="368136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16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905120" y="838080"/>
            <a:ext cx="6172200" cy="50500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>
            <a:hlinkClick r:id="rId1"/>
          </p:cNvPr>
          <p:cNvSpPr/>
          <p:nvPr/>
        </p:nvSpPr>
        <p:spPr>
          <a:xfrm>
            <a:off x="368136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12560" y="3352680"/>
            <a:ext cx="4610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Abu Simbel Temple i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on the edge of the Hig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Da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05120" y="1219320"/>
            <a:ext cx="5715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What’s the relationshi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between the High Da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and Abu Simbel Templ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828800" y="350532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e building of the Aswan High Da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1447920"/>
            <a:ext cx="5486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is the main idea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whole fil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>
            <a:hlinkClick r:id="rId1"/>
          </p:cNvPr>
          <p:cNvSpPr/>
          <p:nvPr/>
        </p:nvSpPr>
        <p:spPr>
          <a:xfrm>
            <a:off x="368136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666880" y="16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981080" y="1752480"/>
            <a:ext cx="419112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 Narrow"/>
                <a:ea typeface=""/>
              </a:rPr>
              <a:t>Why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"/>
              </a:rPr>
              <a:t>was the Hig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"/>
              </a:rPr>
              <a:t>Dam built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33720" y="1676520"/>
            <a:ext cx="5410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to flood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large area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to destroy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houses &amp; crop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to control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the water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to run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regularl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to produce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electricit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828800" y="2590920"/>
            <a:ext cx="5257800" cy="28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It is built for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1. controlling the water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of the Nil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2. producing electricit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52480" y="1143000"/>
            <a:ext cx="5486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"/>
              </a:rPr>
              <a:t>Why was the High Dam built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447920" y="2895480"/>
            <a:ext cx="5181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ey are talking about the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plan for their trip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71600" y="144792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are they talking abou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>
            <a:hlinkClick r:id="rId1"/>
          </p:cNvPr>
          <p:cNvSpPr/>
          <p:nvPr/>
        </p:nvSpPr>
        <p:spPr>
          <a:xfrm>
            <a:off x="368136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47176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371600" y="1447920"/>
            <a:ext cx="6477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The dam, which is the biggest in the world, is _____ metres long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t is ___ metres wide at the base and ___metres wide at the top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The lake that has been made by the dam is about ___ kilometres lo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038120" y="2009880"/>
            <a:ext cx="109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,83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70160" y="2533680"/>
            <a:ext cx="79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98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70520" y="314316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08440" y="4210200"/>
            <a:ext cx="79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722600" y="1368360"/>
            <a:ext cx="2923920" cy="36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What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ere th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roblem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057400" y="2133720"/>
            <a:ext cx="4495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to rise by 63 metr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to move peo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to date from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to be in dang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833480" y="1371600"/>
            <a:ext cx="577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were the problem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05120" y="2133720"/>
            <a:ext cx="5229000" cy="35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The problems wer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1. to move lots of peopl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in this are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2. </a:t>
            </a:r>
            <a:r>
              <a:rPr b="1" i="1" lang="zh-CN" sz="3600" spc="-1" strike="noStrike">
                <a:solidFill>
                  <a:srgbClr val="ff0000"/>
                </a:solidFill>
                <a:latin typeface="Times New Roman"/>
              </a:rPr>
              <a:t>tT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he temples there we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in dang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1600200" y="1371600"/>
          <a:ext cx="3048120" cy="201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371600"/>
                    <a:ext cx="3048120" cy="20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4800600" y="1371600"/>
          <a:ext cx="3048120" cy="19810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1371600"/>
                    <a:ext cx="304812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4800600" y="3657600"/>
          <a:ext cx="3124080" cy="18921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00600" y="3657600"/>
                    <a:ext cx="3124080" cy="18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1676520" y="3657600"/>
          <a:ext cx="2971800" cy="190512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3657600"/>
                    <a:ext cx="297180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in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505320" y="1676520"/>
            <a:ext cx="2908080" cy="49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Verdana"/>
              </a:rPr>
              <a:t>Abu Simbel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Verdana"/>
              <a:ea typeface="Verdana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1447920" y="1066680"/>
          <a:ext cx="6248160" cy="4367160"/>
        </p:xfrm>
        <a:graphic>
          <a:graphicData uri="http://schemas.openxmlformats.org/drawingml/2006/table">
            <a:tbl>
              <a:tblPr/>
              <a:tblGrid>
                <a:gridCol w="1989000"/>
                <a:gridCol w="2200320"/>
                <a:gridCol w="2058840"/>
              </a:tblGrid>
              <a:tr h="6202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enerally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s it big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her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hen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asons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irs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con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blem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5792760" y="1219320"/>
            <a:ext cx="178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Man-m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640480" y="1927080"/>
            <a:ext cx="166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River N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21720" y="26668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ff00"/>
                </a:solidFill>
                <a:latin typeface="Times New Roman"/>
              </a:rPr>
              <a:t>19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92760" y="3276720"/>
            <a:ext cx="105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Fl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715360" y="4038480"/>
            <a:ext cx="167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Electri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81280" y="46483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Move people &amp; s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600560" y="1219320"/>
            <a:ext cx="4228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opic sentence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00200" y="3429000"/>
            <a:ext cx="62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. in the middle of the paragraph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00200" y="2209680"/>
            <a:ext cx="62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t the beginning of the paragraph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464832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. at the end of the paragrap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28600" y="1523880"/>
            <a:ext cx="8458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47920" y="2514600"/>
            <a:ext cx="6553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1. P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90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,  Ex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98160" y="1116000"/>
            <a:ext cx="260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Home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86440" y="3657600"/>
            <a:ext cx="5766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2. to search for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on the Three Gorges D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374120" y="2790720"/>
            <a:ext cx="5970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ey are going to go boat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on the River Nile, and then g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for a walk round Aswa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137160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is their plan for toda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828800" y="1219320"/>
            <a:ext cx="6019920" cy="44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Mr. Whit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 visit the city of Asw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 take a boat to the templ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 go for a walk round Aswan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057400" y="1828800"/>
            <a:ext cx="5029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Mrs. White: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 do some shopp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362320" y="1828800"/>
            <a:ext cx="510516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Pippa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o take a boat on the Nile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508040" y="1773360"/>
            <a:ext cx="100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5120" y="2286000"/>
            <a:ext cx="541008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             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Bob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  visit the High D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676520" y="1600200"/>
            <a:ext cx="59436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at shall we do…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aybe we could visit…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I'd prefer/like to visit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an't we visit…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You'd better take…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600200" y="1219320"/>
            <a:ext cx="617220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Son: Where _____we eat ou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lunch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Dad: Maybe we  ______  fi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a restaurant near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lak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Son: I’d ____ to have a picnic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16600" y="1219320"/>
            <a:ext cx="1095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h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031000" y="2514600"/>
            <a:ext cx="12474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u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54840" y="4572000"/>
            <a:ext cx="891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ik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5T17:04:02Z</dcterms:created>
  <dc:creator>GuoMei</dc:creator>
  <dc:description/>
  <dc:language>en-US</dc:language>
  <cp:lastModifiedBy>潘雪蓉</cp:lastModifiedBy>
  <dcterms:modified xsi:type="dcterms:W3CDTF">2003-06-03T02:22:11Z</dcterms:modified>
  <cp:revision>389</cp:revision>
  <dc:subject/>
  <dc:title>PowerPoint 演示文稿</dc:title>
</cp:coreProperties>
</file>